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367E5-9871-417F-A053-892E0194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B0851-38B9-445E-9C50-63A07529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EEABA-D6D1-4E85-978D-6ADF0646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B0438-81FE-4F57-923F-08995B36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35EA-587A-4B64-98A8-7C9D46A7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19EA-5684-424C-B8FC-E1B102E3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C1A3-BBE2-4547-A2E0-FF770AFB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004B-A14C-4677-8371-7D8837C7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0C74-37D0-44CD-9999-D1CE8A7C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699F-8A9C-43E3-B1BB-23DAED78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4FF0-1E22-42C7-8B32-7166A104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4FFFF-0779-4621-A610-301C9374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2F26-1BDE-434D-ADBB-A6350CDB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5931-36E1-41CD-A9E4-AD794F4C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A134-92CE-49A1-814B-CA2444DE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9EAC-CC7B-4A15-8CAA-5E886230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CBB7-D165-49FD-800D-8786D493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20B54-1AE0-493F-ACB4-D1D93042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5236F-1CD9-434D-A7B8-11973EA6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DC624-D5D3-4B29-B729-4556B38A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47DC-00AB-4172-B601-7F5F93AF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874F4-4743-4C56-849B-D3516DFE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40B5F-A92C-4AE6-90B1-B5CD0ECC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60C50-08E6-478F-BBAC-D68E560A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425D-6A9A-49F0-85F8-110AFF3E0D0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A207-F318-4238-882C-9953571E4F5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130896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6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0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благи този грешен свя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 чудно възлюбил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целий род човешки кле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ение дари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81080" y="1057680"/>
            <a:ext cx="932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ква любов, каква любо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каза Бог към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жертвува живот Христов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да съм аз блаж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17042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Живот, неща преславни нам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несе от небе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ата ни във Божи храм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върна Ти, Христ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181080" y="1057680"/>
            <a:ext cx="932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ква любов, каква любо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каза Бог към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жертвува живот Христов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да съм аз блаж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181080" y="1183680"/>
            <a:ext cx="932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братя верни във Христ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рвете все напред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вното слово за кръс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стете вий навред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181080" y="1057680"/>
            <a:ext cx="932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ква любов, каква любо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каза Бог към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жертвува живот Христов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да съм аз блаж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42:00Z</dcterms:modified>
  <cp:revision>21</cp:revision>
  <dc:subject/>
  <dc:title>Slide 1</dc:title>
</cp:coreProperties>
</file>